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6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35040" y="-36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91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35040" y="651312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2E78-21A2-4770-8DAB-60D8A5535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26F-992E-4A0D-B921-DFE2D0B8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425-47EB-4937-82BC-2392E836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E52-DAC8-4C0C-BB94-11B25CFE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FC8-AC77-4520-937D-EB428A44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B2D-CF60-4335-A7D7-6DC5A85D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E43-D2B4-4691-8B16-AAD7E65F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6C6-031D-469C-AAAE-9489B522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934-D3F4-4060-BE34-E07D280E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464D-5222-469B-8F0C-A33B5A80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6ED-6F24-45D0-8BE5-B3C9C2BE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950-1C50-4226-8BE7-CF0405E7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E77-8B6B-434D-AB7A-9DD5BFC7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BEF0-5A52-4889-AABA-A76D8C184EA4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Redefining Developmental Math for Non-Algebra Core Math  Cours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Daryl Stephe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stephen@etsu.edu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Butle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butlern@etsu.ed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Tennessee State Univers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0" name="Picture 7" descr="ETSUlogo_blue_150"/>
          <p:cNvPicPr/>
          <p:nvPr/>
        </p:nvPicPr>
        <p:blipFill>
          <a:blip r:embed="rId1"/>
          <a:stretch/>
        </p:blipFill>
        <p:spPr>
          <a:xfrm>
            <a:off x="3657600" y="5486400"/>
            <a:ext cx="14288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Proposal –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My Math Lab, Hawkes Learning, or similar programs with both course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Alternate days between lecture classroom and computer lab as is done with statistics course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Do spreadsheet activities in elementary algebra to prepare students for Minitab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graphing calculator in elementary algebra to prepare for stat and in intermediate algebra to prepare students for precalculu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visioned 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st savings: Cut back on sections of 0850 from ~12 each semester to ~3 or 4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pare students for courses they would actually t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individualized help with computer programs and developmental math tu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ministration would be difficul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placed in 0850? Move them on in to 1530 or put them in 080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change to science major after finishing 0800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53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BR DSP Redesig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s working in all areas including math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ign with HS exit standar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is year’s 7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graders (Class of 2013) will have to take math all 4 years of high school!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w math curriculum standards based on NCTM, ADP, ACT, NAEP, . . 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Redesig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 includes university, community college, and high school facul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urrently surveying math and other faculty across TBR to see what math is actually needed in intro and gen-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me thought given to multiple exit poi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questions than answers at this poi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mittee’s Char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xamin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should be taught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ilot programs help decid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o, how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committee Me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ris Knight (Walters SCC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ohn Kendall (SW TN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va Lucas (M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elen Darcey (Cleveland S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y Monroe-Ellis (PST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haron Lee (Wilson County Schools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ryl Stephens (E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Surv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next few slides show a version of some questions that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e on the questionnaire to ask what math is needed in TBR core math classes with a prerequisite below the level of MATH 1xyz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H 1010, 1110, 1130, 1410, 1420, 1530, 1630, 1710, 1720, 1730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grated Concep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371600"/>
          <a:ext cx="8229600" cy="5211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to other discipline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real world application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symbolically, numerically, graphically and verbally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Reading and interpreting graphs and tables, communicating mathematics, model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egrating technology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as a tool for problem solving and discover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veloping study skill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problem solving strategies, managing math anxiety, time management, feasibleness of solution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alyze characteristics of function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domain, range, increasing, decreasing, and continuit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533520"/>
          <a:ext cx="8229600" cy="6324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gebra  and  Number Sens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real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erform operations on complex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polynomial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factor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linear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linear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quadratic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quadratic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tion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claim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have all the answers.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even have all the questions!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Your mileage may vary. (It may be that nothing in this presentation will apply to your institution’s situation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rational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dic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equations/inequalities with radical express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exponential and logarithmic functions and 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 exponential and logarithmic equat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Unit conversion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mass, weight and volume in both standard and metric system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systems of equations and 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81080"/>
          <a:ext cx="8229600" cy="4127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roductory Probability and Statistic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sic probabil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pplying descriptive statistics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of center and variation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49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Organize and display data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histograms, stems and leaf, pie charts, scatter plot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ic principle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 parallel line and transversals, sum of angles in plane figures, distance formula, midpoint formula, volume, and surface area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naire for Non-Math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229600" cy="4427640"/>
        </p:xfrm>
        <a:graphic>
          <a:graphicData uri="http://schemas.openxmlformats.org/drawingml/2006/table">
            <a:tbl>
              <a:tblPr/>
              <a:tblGrid>
                <a:gridCol w="1498680"/>
                <a:gridCol w="6730920"/>
              </a:tblGrid>
              <a:tr h="75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Division/Departme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5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lease list the top prerequisite math skills needed in your program or course. Only include those courses that do not already have a math prerequisite/corequisite. In other words, what math skills do your students </a:t>
                      </a:r>
                      <a:r>
                        <a:rPr b="1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</a:rPr>
                        <a:t>need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to have before they enter your class to have a reasonable chance at success?</a:t>
                      </a: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rogram name or course rubr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th Skills List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nter skills here .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to do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nd money and/or share computer spac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ve forward with the changes we can m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ach the important topics that prepare students for statistics in our DSPM 0800 then move students straight to Statistics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udents needing Precalculus take DSPM 0850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ed 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Content Placeholder 8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85040" cy="45226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SPM 0800 Content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proposed)</a:t>
            </a:r>
            <a:br>
              <a:rPr sz="4400"/>
            </a:b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(Based on Martin-Gay combined 4</a:t>
            </a:r>
            <a:r>
              <a:rPr b="0" i="1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 edition)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. Review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2 Symbols and Sets of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3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4 Introduction to Variable Expressions and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5 Add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6 Subtract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7  Multiplying and Dividing Real Numbers--Operations on Real Number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8  Properties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1  Simplifying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2 The Addition and Multiplication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perties of Equality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3  Solv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4 An Introduction to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5 Formula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6 Perc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8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1 Reading Graphs &amp; The Rectangula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ordinate Syst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2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3 Intercep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4 Slope and Rate of Chang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5 Slope-Intercept Form: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y = mx + b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6 The Point-Slope For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7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1 Solving Systems of Linear Equations by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9. Inequalities and Absolute Valu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1 Compound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4 Linear Inequalities in Two Variable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d Systems of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1 Radicals and Radic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(Here’s where your mileage may vary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y little intermediate algebra is used in this cours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ppendic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. An Introduction to Using a Graphing Util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. Mean, Median, and Mo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DSPM 08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2 Polynomial Functions and Adding and Subtract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3 Multiply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4 Special Produc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Exponents and Operations on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5 Negative Exponents and Scientific Not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6 Divid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7 The Remainder Theor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6. Factor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1 The Greatest Common Factor and Factoring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2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3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and Perfect Square Tr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4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5 Factoring B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Choosing a Factoring Strateg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6 Solving Quadratic Equations by Factor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7 Quadratic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7.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1 Rational Functions and Simplify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2 Multiplying and Divid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3 Adding and Subtracting Rational Expressions with Common Denominators and Least Common Denomin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4 Adding and Subtracting Rational Expressions with Unlike  Denomina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5 Solving Equations Contain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6 Proportion and Problem Solving with Rational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7 Simplifying Complex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, and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2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3 Simplif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4 Adding and Subtracting and Multipl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5 Rationalizing Denominators and Numerators of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Radicals and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6 Radical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7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1. Quadratic Equations and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1 Solving Quadratic Equations by Completing the Squar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2 Solving Quadratic Equations by the Quadratic Formula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3 Solving Equations by Using Quadratic Metho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Quadratic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5 Quadratic Functions and Their Graph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6 Further Graphing of Quadrat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2 Solving Systems of Linear Equations by Substit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3 Solving Systems of Linear Equations by Addi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5 Systems of Linear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STCC and WSCC are affected by ETSU’s decision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3 Exponenti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4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7 Exponential and Logarithmic Equations and Applic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*Optiona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Question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s?</a:t>
            </a:r>
            <a:br>
              <a:rPr sz="4400"/>
            </a:b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Comments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?</a:t>
            </a:r>
            <a:br>
              <a:rPr sz="4400"/>
            </a:br>
            <a:r>
              <a:rPr b="0" lang="en-US" sz="4400" spc="-1" strike="noStrike">
                <a:solidFill>
                  <a:srgbClr val="ad5d6a"/>
                </a:solidFill>
                <a:latin typeface="Tahoma"/>
              </a:rPr>
              <a:t>Complaint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did we think we would do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" name="Picture 9" descr="Tower-Dosset"/>
          <p:cNvPicPr/>
          <p:nvPr/>
        </p:nvPicPr>
        <p:blipFill>
          <a:blip r:embed="rId1"/>
          <a:stretch/>
        </p:blipFill>
        <p:spPr>
          <a:xfrm>
            <a:off x="2971800" y="3505320"/>
            <a:ext cx="3610080" cy="2939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 (Briefly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-vamp DSPM 0800 to make it a better preparation for statistic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lete DSPM 0850 requirement for students not taking precalculus or other algebra-bas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ame Topics, New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concepts do the statisticians think the incoming student need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phasiz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rder of operation, especially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stributive property, even when us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 calcul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aring (order) fractions, decimals,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s, and signed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rpret numerical answer—(wha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es it mean?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stimation: does the answer make sense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, proportions, decim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and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language of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10:19Z</dcterms:created>
  <dc:creator>Daryl Stephens</dc:creator>
  <dc:description/>
  <dc:language>en-US</dc:language>
  <cp:lastModifiedBy>LEGION</cp:lastModifiedBy>
  <dcterms:modified xsi:type="dcterms:W3CDTF">2017-07-06T06:39:31Z</dcterms:modified>
  <cp:revision>111</cp:revision>
  <dc:subject/>
  <dc:title>Slide 1</dc:title>
</cp:coreProperties>
</file>